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F01-6B54-4A86-89F2-A77DBAE8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CE6-143C-430C-8A5D-D4DC8E2B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2A1-8C31-4414-91F6-DCF4CAA4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044-A93A-44D7-954F-6A449FE6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CFE-1949-44F5-8A51-7CCB2303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E11-6F6F-41D5-9C20-BCA7C99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1DB-E97A-43BA-9CA4-310C99A5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AF9-0581-44BC-A576-A4A96982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7B5-F23A-4878-9D15-E572010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DBB-6F58-4AEA-9E3C-C0B8B6F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7CE-585B-436B-9929-4638F9B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071-A23F-4039-8065-0865D11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3AA-53F6-4934-9CF9-E4587CBF1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4: Cell Division &amp; Hered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h. 12 – The Cell Cy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199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1 Phase – Cell grows and produces proteins, extra organel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at the G1 checkpoint by proteins called cyclin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assed, cell usually continues the rest of the cy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 passed, cell enters G0 phase. The cell essentially exits the division phase and can “try again later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Phase – “Synthesis”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duplicated (details in Ch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at which each single chromosome becomes a chromosome with 2 chromatids. The chromatids are identi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ds are “linked” at their centrome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2 Phase – Cell grows and produces proteins, extra organel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at the G2 checkpoint by proteins called cyclin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regulating factor is called MP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-phase Promoting Fa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DNA has doubl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have 46 chromosomes in each of their somatic cells. Remembering that a chromosome is a “section” of DNA and all chromosomes combined is all the DNA, answe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G1, how many chromosomes are there? Centrome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end of S, how many chromosomes are there? Chromatids? Centrome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totic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osis: 5 major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dle fo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osomes moving towards p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oli disapp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n becomes condensed into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 chromatids becoming vi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 Placeholder 2" descr=""/>
          <p:cNvPicPr/>
          <p:nvPr/>
        </p:nvPicPr>
        <p:blipFill>
          <a:blip r:embed="rId1"/>
          <a:srcRect l="32288" t="4000" r="35450" b="52013"/>
          <a:stretch/>
        </p:blipFill>
        <p:spPr>
          <a:xfrm>
            <a:off x="4648320" y="1371600"/>
            <a:ext cx="38862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envelope disappe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more conden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dle fibers associating with kinetoch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achment site for spindle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ext Placeholder 2" descr=""/>
          <p:cNvPicPr/>
          <p:nvPr/>
        </p:nvPicPr>
        <p:blipFill>
          <a:blip r:embed="rId1"/>
          <a:srcRect l="64563" t="4000" r="-625" b="52013"/>
          <a:stretch/>
        </p:blipFill>
        <p:spPr>
          <a:xfrm>
            <a:off x="4267080" y="144792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align at center (metaphase pl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dle fibers completely attached to kinetoch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1"/>
          <a:srcRect l="0" t="58000" r="65838" b="0"/>
          <a:stretch/>
        </p:blipFill>
        <p:spPr>
          <a:xfrm>
            <a:off x="4724280" y="15238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 chromatids are pulled apart to opposite ends of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elongates while chromatids m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ext Placeholder 2" descr=""/>
          <p:cNvPicPr/>
          <p:nvPr/>
        </p:nvPicPr>
        <p:blipFill>
          <a:blip r:embed="rId1"/>
          <a:srcRect l="34175" t="58000" r="33550" b="0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12 Cell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divid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sm re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 &amp; Renew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www.ucmp.berkeley.edu/protista/ciliata/ciliatedivis2.gif"/>
          <p:cNvPicPr/>
          <p:nvPr/>
        </p:nvPicPr>
        <p:blipFill>
          <a:blip r:embed="rId1"/>
          <a:stretch/>
        </p:blipFill>
        <p:spPr>
          <a:xfrm>
            <a:off x="5943600" y="1676520"/>
            <a:ext cx="2400480" cy="1679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coris.noaa.gov/glossary/radialcleavage_186.jpg"/>
          <p:cNvPicPr/>
          <p:nvPr/>
        </p:nvPicPr>
        <p:blipFill>
          <a:blip r:embed="rId2"/>
          <a:stretch/>
        </p:blipFill>
        <p:spPr>
          <a:xfrm>
            <a:off x="3276720" y="3048120"/>
            <a:ext cx="247968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ebanatomy.net/anatomy/wound_repair.jpg"/>
          <p:cNvPicPr/>
          <p:nvPr/>
        </p:nvPicPr>
        <p:blipFill>
          <a:blip r:embed="rId3">
            <a:grayscl/>
          </a:blip>
          <a:stretch/>
        </p:blipFill>
        <p:spPr>
          <a:xfrm>
            <a:off x="5334120" y="4343400"/>
            <a:ext cx="3429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oli begin refo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envelopes form around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s begin to uncond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ext Placeholder 2" descr=""/>
          <p:cNvPicPr/>
          <p:nvPr/>
        </p:nvPicPr>
        <p:blipFill>
          <a:blip r:embed="rId1"/>
          <a:srcRect l="64563" t="58000" r="1275" b="0"/>
          <a:stretch/>
        </p:blipFill>
        <p:spPr>
          <a:xfrm>
            <a:off x="4419720" y="1728720"/>
            <a:ext cx="40384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47560"/>
            <a:ext cx="8153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happens with 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splits along the mid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imals: Cleavage fu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ts: Cell 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45185" r="0" b="0"/>
          <a:stretch/>
        </p:blipFill>
        <p:spPr>
          <a:xfrm>
            <a:off x="380880" y="3352680"/>
            <a:ext cx="8305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s of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cer cells: Cells that have overcome the control of the cell cy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 in an uncontrolled fashion. Movement can also be uncontrolled (metastasi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ign tumors: Relatively harm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 tumors: Usually damage other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Cell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by MIT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ploid (2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ets of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ductive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by MEI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ploid 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set of chromos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genomicseducation.ca/files/Images/information_articles/stem_cell_basics-1.gif"/>
          <p:cNvPicPr/>
          <p:nvPr/>
        </p:nvPicPr>
        <p:blipFill>
          <a:blip r:embed="rId1"/>
          <a:srcRect l="2257" t="38238" r="0" b="0"/>
          <a:stretch/>
        </p:blipFill>
        <p:spPr>
          <a:xfrm>
            <a:off x="4876920" y="1295280"/>
            <a:ext cx="39146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wps.prenhall.com/wps/media/objects/489/501016/CDA45_1.jpg"/>
          <p:cNvPicPr/>
          <p:nvPr/>
        </p:nvPicPr>
        <p:blipFill>
          <a:blip r:embed="rId2"/>
          <a:stretch/>
        </p:blipFill>
        <p:spPr>
          <a:xfrm>
            <a:off x="5715000" y="38098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To create a GENETICALLY IDENTICAL copy of a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ire genome is du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ytoplasm is partitioned “equall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ll becomes 2 cells, 2 cells become 4 cell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the Du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: There is a lot of DNA and mistakes can be detrimental. No room for erro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like many balls of yarn all placed in the same bas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NA must be first organized before it can be cop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atin: All of an organism’s DNA in an uncondensed, loose 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n during times of normal functions, no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divis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micro.magnet.fsu.edu/cells/nucleus/images/chromatinstructurefigure1.jpg"/>
          <p:cNvPicPr/>
          <p:nvPr/>
        </p:nvPicPr>
        <p:blipFill>
          <a:blip r:embed="rId1"/>
          <a:stretch/>
        </p:blipFill>
        <p:spPr>
          <a:xfrm>
            <a:off x="1981080" y="3657600"/>
            <a:ext cx="490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: All of an organism’s DNA in condensed, tight bun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n during times of cell div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mere: Area where a chromosome is constricted. Location that chromatids attach to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Division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words can be confusing, be sure to know the differenc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oso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ensed DNA before du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ensed DNA after duplication &amp; also after separation by mit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atid (sister chromati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 of a duplicated chrom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uplicated chromosome has 2 chromat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CYCLE: Knowing where in the cycle a cell is helps for remembering what comes next and what is required for it to happ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hase: Growth, DNA synthesis,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totic phase (M ph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tosis: Partitioning of DNA into each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ytokinesis: Division of cytopla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8:09:48Z</dcterms:created>
  <dc:creator>leanne</dc:creator>
  <dc:description/>
  <dc:language>en-US</dc:language>
  <cp:lastModifiedBy>NASD</cp:lastModifiedBy>
  <dcterms:modified xsi:type="dcterms:W3CDTF">2009-01-22T13:23:47Z</dcterms:modified>
  <cp:revision>28</cp:revision>
  <dc:subject/>
  <dc:title>Slide 1</dc:title>
</cp:coreProperties>
</file>